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22.wmf" ContentType="image/x-wmf"/>
  <Override PartName="/ppt/media/image20.jpeg" ContentType="image/jpeg"/>
  <Override PartName="/ppt/media/image21.jpeg" ContentType="image/jpeg"/>
  <Override PartName="/ppt/media/image2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14.jpeg" ContentType="image/jpeg"/>
  <Override PartName="/ppt/media/image24.wmf" ContentType="image/x-wmf"/>
  <Override PartName="/ppt/media/image1.wmf" ContentType="image/x-wmf"/>
  <Override PartName="/ppt/media/image9.jpeg" ContentType="image/jpeg"/>
  <Override PartName="/ppt/media/image23.jpeg" ContentType="image/jpeg"/>
  <Override PartName="/ppt/media/image15.jpeg" ContentType="image/jpeg"/>
  <Override PartName="/ppt/media/image3.wmf" ContentType="image/x-wmf"/>
  <Override PartName="/ppt/media/image27.wmf" ContentType="image/x-wmf"/>
  <Override PartName="/ppt/media/image4.wmf" ContentType="image/x-wmf"/>
  <Override PartName="/ppt/media/image50.wmf" ContentType="image/x-wmf"/>
  <Override PartName="/ppt/media/image35.jpeg" ContentType="image/jpeg"/>
  <Override PartName="/ppt/media/image13.wmf" ContentType="image/x-wmf"/>
  <Override PartName="/ppt/media/image10.jpeg" ContentType="image/jpeg"/>
  <Override PartName="/ppt/media/image39.wmf" ContentType="image/x-wmf"/>
  <Override PartName="/ppt/media/image8.jpeg" ContentType="image/jpeg"/>
  <Override PartName="/ppt/media/image41.wmf" ContentType="image/x-wmf"/>
  <Override PartName="/ppt/media/image38.wmf" ContentType="image/x-wmf"/>
  <Override PartName="/ppt/media/image43.jpeg" ContentType="image/jpeg"/>
  <Override PartName="/ppt/media/image44.png" ContentType="image/png"/>
  <Override PartName="/ppt/media/image40.jpeg" ContentType="image/jpeg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36.png" ContentType="image/png"/>
  <Override PartName="/ppt/media/image47.wmf" ContentType="image/x-wmf"/>
  <Override PartName="/ppt/media/image37.wmf" ContentType="image/x-wmf"/>
  <Override PartName="/ppt/media/image49.wmf" ContentType="image/x-wmf"/>
  <Override PartName="/ppt/media/image33.jpeg" ContentType="image/jpeg"/>
  <Override PartName="/ppt/media/image30.wmf" ContentType="image/x-wmf"/>
  <Override PartName="/ppt/media/image34.jpeg" ContentType="image/jpeg"/>
  <Override PartName="/ppt/media/image7.png" ContentType="image/png"/>
  <Override PartName="/ppt/media/image6.wmf" ContentType="image/x-wmf"/>
  <Override PartName="/ppt/media/image31.png" ContentType="image/png"/>
  <Override PartName="/ppt/media/image29.wmf" ContentType="image/x-wmf"/>
  <Override PartName="/ppt/media/image19.jpeg" ContentType="image/jpeg"/>
  <Override PartName="/ppt/media/image4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E0EF-70D7-46E8-9DB4-636D1566D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83F7-7ECA-42D0-BA6E-0C744B11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3FBA-D23E-4396-9CB6-BBEECF6A9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3F34-AA09-41AC-8808-BF264F0FE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AC2A-F163-4EF4-8B23-A721E5B3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8840-7F69-45BB-B47C-5957C336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236D-2279-47F2-A6E1-F8CCD4B7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14BF-9DEF-44F8-9643-FCD7EE13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DF4E-F48C-412A-80AC-E0EB4490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70BC-856B-4000-8FC0-2F179EA8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C4A9-0397-4994-825E-CA5434FD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3960-AFD9-40F1-8E38-B48CC829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6250-1CBD-4D2C-B7BD-95D4A551EDF8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8" Type="http://schemas.microsoft.com/office/2007/relationships/media" Target="file:///tmp/home/.config/libreoffice/4/user/gallery/&#1047;&#1072;&#1087;&#1080;&#1089;&#1072;&#1085;&#1085;&#1099;&#1081;%20&#1079;&#1074;&#1091;&#1082;" TargetMode="Externa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32.pn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8.wmf"/><Relationship Id="rId5" Type="http://schemas.openxmlformats.org/officeDocument/2006/relationships/image" Target="../media/image49.wmf"/><Relationship Id="rId6" Type="http://schemas.openxmlformats.org/officeDocument/2006/relationships/image" Target="../media/image50.wmf"/><Relationship Id="rId7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8" Type="http://schemas.microsoft.com/office/2007/relationships/media" Target="file:///tmp/home/.config/libreoffice/4/user/gallery/&#1047;&#1072;&#1087;&#1080;&#1089;&#1072;&#1085;&#1085;&#1099;&#1081;%20&#1079;&#1074;&#1091;&#1082;" TargetMode="Externa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wmf"/><Relationship Id="rId5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6" Type="http://schemas.microsoft.com/office/2007/relationships/media" Target="file:///tmp/home/.config/libreoffice/4/user/gallery/&#1047;&#1072;&#1087;&#1080;&#1089;&#1072;&#1085;&#1085;&#1099;&#1081;%20&#1079;&#1074;&#1091;&#1082;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wmf"/><Relationship Id="rId3" Type="http://schemas.openxmlformats.org/officeDocument/2006/relationships/image" Target="../media/image15.jpe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wmf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9999"/>
                </a:solidFill>
                <a:uFillTx/>
                <a:latin typeface="Arial Black"/>
              </a:rPr>
              <a:t>Ягоды</a:t>
            </a:r>
            <a:r>
              <a:rPr b="1" lang="en-US" sz="5400" spc="-1" strike="noStrike" u="sng">
                <a:solidFill>
                  <a:srgbClr val="009999"/>
                </a:solidFill>
                <a:uFillTx/>
                <a:latin typeface="Arial Black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2241720" cy="2649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581280" y="5562720"/>
            <a:ext cx="2286000" cy="1123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858000" y="4495680"/>
            <a:ext cx="1768320" cy="2119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086600" y="228600"/>
            <a:ext cx="1917720" cy="2103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352680" y="380880"/>
            <a:ext cx="2514600" cy="1689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228600" y="4602240"/>
            <a:ext cx="1746360" cy="2255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" action="ppaction://media"/>
          </p:cNvPr>
          <p:cNvPicPr/>
          <p:nvPr>
            <a:vide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45820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67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5866920"/>
            <a:ext cx="61722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КЛУБ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НИ</a:t>
            </a: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КА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5346720" cy="4887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04920" y="4114800"/>
            <a:ext cx="2743200" cy="2387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14400" y="533520"/>
            <a:ext cx="2106720" cy="2514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610480" y="-4572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816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6019560"/>
            <a:ext cx="5943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ЕЖЕ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ВИ</a:t>
            </a: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4920" y="4724280"/>
            <a:ext cx="1368360" cy="1968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6629400" y="4800600"/>
            <a:ext cx="2286000" cy="1873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1905120" y="152280"/>
            <a:ext cx="6705360" cy="4454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926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5943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Ягоды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ПА</a:t>
            </a: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ДУБ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3902040" cy="3121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343400" y="990720"/>
            <a:ext cx="4572000" cy="4694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0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10480" y="-6094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644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9432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ГОЛУ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БИ</a:t>
            </a: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КА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9461" t="0" r="0" b="0"/>
          <a:stretch/>
        </p:blipFill>
        <p:spPr>
          <a:xfrm>
            <a:off x="3200400" y="304920"/>
            <a:ext cx="5638680" cy="4767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8600" y="3886200"/>
            <a:ext cx="2590920" cy="2152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5345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98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59432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БРУС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НИ</a:t>
            </a: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672080" cy="4008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1880" y="-6094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136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60195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ЧЕР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НИ</a:t>
            </a: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2895480" cy="2865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3641760" y="168120"/>
            <a:ext cx="5135400" cy="5257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667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60958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КИ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ЗИ</a:t>
            </a: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09680" y="152280"/>
            <a:ext cx="4672080" cy="5658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517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5791320"/>
            <a:ext cx="62485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ЧЕ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РЕ</a:t>
            </a: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ШНЯ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086600" cy="4724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019920" y="4038480"/>
            <a:ext cx="2819160" cy="2559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85345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01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0920" y="289512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9999"/>
                </a:solidFill>
                <a:uFillTx/>
                <a:latin typeface="Arial Black"/>
              </a:rPr>
              <a:t>КОНЕЦ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400800" y="4952880"/>
            <a:ext cx="2362320" cy="163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172200" y="152280"/>
            <a:ext cx="2590920" cy="3105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1338480" cy="2428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57200" y="3581280"/>
            <a:ext cx="1947960" cy="3046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3429000" y="4419720"/>
            <a:ext cx="2386080" cy="2100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3124080" y="152280"/>
            <a:ext cx="2711520" cy="2365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" action="ppaction://media"/>
          </p:cNvPr>
          <p:cNvPicPr/>
          <p:nvPr>
            <a:vide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776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8120" y="5943240"/>
            <a:ext cx="58672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ШИ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ПО</a:t>
            </a: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ВНИК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2438280" cy="2136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895480" y="228600"/>
            <a:ext cx="6019920" cy="4683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2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96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588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МА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ЛИ</a:t>
            </a: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Н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29000" y="228600"/>
            <a:ext cx="5505480" cy="5000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" y="3429000"/>
            <a:ext cx="2971800" cy="2565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28600" y="457200"/>
            <a:ext cx="3048120" cy="2043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781680" y="5349960"/>
            <a:ext cx="2210040" cy="1235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766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943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РЯ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БИ</a:t>
            </a: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Н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624480" cy="5440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181480" y="3809880"/>
            <a:ext cx="3276720" cy="1928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724280" y="228600"/>
            <a:ext cx="4114800" cy="3108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3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902664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647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5943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ЧЕ</a:t>
            </a: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РНАЯ СМО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РО</a:t>
            </a: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ДИН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545160" y="0"/>
            <a:ext cx="2598840" cy="2849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514600" y="2438280"/>
            <a:ext cx="4495680" cy="3211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443400" cy="3809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5345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405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5791320"/>
            <a:ext cx="75438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К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РА</a:t>
            </a: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СНАЯ СМО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РО</a:t>
            </a: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ДИНА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5081760" cy="5486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172200" y="3505320"/>
            <a:ext cx="2666880" cy="2200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2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381880" y="-2332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435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6095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КРЫ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ЖО</a:t>
            </a: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ВНИК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124080" y="304920"/>
            <a:ext cx="5810400" cy="4938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2438280" cy="2025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85800" y="914400"/>
            <a:ext cx="1828800" cy="1525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936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58669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ЗЕМЛЯ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НИ</a:t>
            </a: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809880" y="457200"/>
            <a:ext cx="5048280" cy="4687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" y="3505320"/>
            <a:ext cx="2597040" cy="3062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04920" y="457200"/>
            <a:ext cx="3200400" cy="2611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2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136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5943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ОБЛЕ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ПИ</a:t>
            </a:r>
            <a:r>
              <a:rPr b="0" lang="en-US" sz="3600" spc="-1" strike="noStrike">
                <a:solidFill>
                  <a:srgbClr val="009999"/>
                </a:solidFill>
                <a:latin typeface="Arial Black"/>
              </a:rPr>
              <a:t>Х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2362320" cy="2343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5167440" cy="5410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846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oha</cp:lastModifiedBy>
  <dcterms:modified xsi:type="dcterms:W3CDTF">2008-09-25T07:36:11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